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E275-0BBF-4B7F-BC3C-EF17001B5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0728-D43C-4BCC-BCFC-66492CADF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093B-1BA1-43FC-830A-1F53B0A5B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BFCC-99F1-4CDF-A120-C92812F2E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5DB2-C206-402A-9434-D7A7D5696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2D8D-6003-41AA-BBF5-59A4CD3F7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0AAC-F22B-4B08-BDDB-1AE3ABA30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0273-2F8F-4CCA-8ABB-5CF75BA7C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81E3-76F6-4CE3-8E9E-260C32850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F029-781C-4C14-A2F3-139BB6A8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F448-E978-4728-8901-56E03B64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ACB4-99A0-48B9-9473-6A6C9E7E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B8F25-AC6B-4461-953E-B821FDE0C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979560"/>
            <a:ext cx="8713800" cy="53290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1628640"/>
            <a:ext cx="1440000" cy="172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79640" y="1628640"/>
            <a:ext cx="1440000" cy="172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80000" y="1628640"/>
            <a:ext cx="1439640" cy="172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64000" y="1628640"/>
            <a:ext cx="1440000" cy="172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1700280"/>
            <a:ext cx="136692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F &amp; 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1700280"/>
            <a:ext cx="136692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F &amp; 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81440" y="1700280"/>
            <a:ext cx="136692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De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HW, Mech, 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65800" y="1700280"/>
            <a:ext cx="136692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-Com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SWC, SW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3859200"/>
            <a:ext cx="1440000" cy="172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8720" y="399744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4437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16000" y="443700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79640" y="3859200"/>
            <a:ext cx="1440000" cy="172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40000" y="399744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780000" y="3859200"/>
            <a:ext cx="3024000" cy="172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32360" y="39974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89080" y="465120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UM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465120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79640" y="4437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443700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4651200"/>
            <a:ext cx="7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UM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052720" y="465120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4437000"/>
            <a:ext cx="30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00720" y="443700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43280" y="4651200"/>
            <a:ext cx="57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24360" y="465120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80000" y="240192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00720" y="242100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00720" y="254808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UM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254808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64000" y="24019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84720" y="242100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2548080"/>
            <a:ext cx="7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UM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64000" y="2548080"/>
            <a:ext cx="7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6920" y="2844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8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1280" y="28447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51280" y="2844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14920" y="284472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435640" y="284472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299280" y="28386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50720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87280" y="50785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050920" y="50785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43280" y="50785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51280" y="50785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43280" y="50785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292720" y="443700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84720" y="443700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4651200"/>
            <a:ext cx="5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IP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435640" y="50785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229440" y="4651200"/>
            <a:ext cx="5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R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229440" y="50785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236000" y="3860640"/>
            <a:ext cx="1439640" cy="172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24720" y="399744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236000" y="449424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956720" y="450864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956720" y="4567320"/>
            <a:ext cx="71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artner, Lice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36000" y="4653000"/>
            <a:ext cx="93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M, P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07280" y="50785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99280" y="50720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600360" y="979560"/>
            <a:ext cx="0" cy="532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12392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t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24200" y="1123920"/>
            <a:ext cx="31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Feature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020000" y="979560"/>
            <a:ext cx="0" cy="532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79640" y="2421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2421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800" y="345960"/>
            <a:ext cx="816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80‘ Scenario for FY04/0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12.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71640" y="6308640"/>
            <a:ext cx="17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: 240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00720" y="6308640"/>
            <a:ext cx="17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: 220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451640" y="6308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: 85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308720" y="1125360"/>
            <a:ext cx="136872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5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93080" y="2421000"/>
            <a:ext cx="1657080" cy="576360"/>
          </a:xfrm>
          <a:prstGeom prst="wedgeEllipseCallout">
            <a:avLst>
              <a:gd name="adj1" fmla="val 0"/>
              <a:gd name="adj2" fmla="val -113083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p: 65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51280" y="5734080"/>
            <a:ext cx="790560" cy="431640"/>
          </a:xfrm>
          <a:prstGeom prst="wedgeEllipseCallout">
            <a:avLst>
              <a:gd name="adj1" fmla="val -17870"/>
              <a:gd name="adj2" fmla="val -117648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0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076720" y="3500280"/>
            <a:ext cx="790560" cy="432000"/>
          </a:xfrm>
          <a:prstGeom prst="wedgeEllipseCallout">
            <a:avLst>
              <a:gd name="adj1" fmla="val 27509"/>
              <a:gd name="adj2" fmla="val -117648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5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958160" y="5734080"/>
            <a:ext cx="790560" cy="431640"/>
          </a:xfrm>
          <a:prstGeom prst="wedgeEllipseCallout">
            <a:avLst>
              <a:gd name="adj1" fmla="val -5421"/>
              <a:gd name="adj2" fmla="val -11360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" y="5734080"/>
            <a:ext cx="790560" cy="431640"/>
          </a:xfrm>
          <a:prstGeom prst="wedgeEllipseCallout">
            <a:avLst>
              <a:gd name="adj1" fmla="val 199"/>
              <a:gd name="adj2" fmla="val -117648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5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050920" y="5734080"/>
            <a:ext cx="790560" cy="431640"/>
          </a:xfrm>
          <a:prstGeom prst="wedgeEllipseCallout">
            <a:avLst>
              <a:gd name="adj1" fmla="val -10240"/>
              <a:gd name="adj2" fmla="val -114703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87280" y="5734080"/>
            <a:ext cx="790920" cy="431640"/>
          </a:xfrm>
          <a:prstGeom prst="wedgeEllipseCallout">
            <a:avLst>
              <a:gd name="adj1" fmla="val -22689"/>
              <a:gd name="adj2" fmla="val -114703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‘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17800" y="5734080"/>
            <a:ext cx="790560" cy="431640"/>
          </a:xfrm>
          <a:prstGeom prst="wedgeEllipseCallout">
            <a:avLst>
              <a:gd name="adj1" fmla="val -31125"/>
              <a:gd name="adj2" fmla="val -111763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0‘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093080" y="5734080"/>
            <a:ext cx="790560" cy="431640"/>
          </a:xfrm>
          <a:prstGeom prst="wedgeEllipseCallout">
            <a:avLst>
              <a:gd name="adj1" fmla="val 5824"/>
              <a:gd name="adj2" fmla="val -119486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3500280"/>
            <a:ext cx="790560" cy="432000"/>
          </a:xfrm>
          <a:prstGeom prst="wedgeEllipseCallout">
            <a:avLst>
              <a:gd name="adj1" fmla="val 27509"/>
              <a:gd name="adj2" fmla="val -117648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0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76720" y="5734080"/>
            <a:ext cx="9352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155920" y="573408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ves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093080" y="3284640"/>
            <a:ext cx="9349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094880" y="328464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ave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57800" y="5734080"/>
            <a:ext cx="790560" cy="431640"/>
          </a:xfrm>
          <a:prstGeom prst="wedgeEllipseCallout">
            <a:avLst>
              <a:gd name="adj1" fmla="val -77712"/>
              <a:gd name="adj2" fmla="val -477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0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028000" y="3573360"/>
            <a:ext cx="792000" cy="432000"/>
          </a:xfrm>
          <a:prstGeom prst="wedgeEllipseCallout">
            <a:avLst>
              <a:gd name="adj1" fmla="val -87074"/>
              <a:gd name="adj2" fmla="val -3125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5‘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86520" y="3500280"/>
            <a:ext cx="790560" cy="432000"/>
          </a:xfrm>
          <a:prstGeom prst="wedgeEllipseCallout">
            <a:avLst>
              <a:gd name="adj1" fmla="val -6226"/>
              <a:gd name="adj2" fmla="val -12941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‘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95640" y="3500280"/>
            <a:ext cx="790560" cy="432000"/>
          </a:xfrm>
          <a:prstGeom prst="wedgeEllipseCallout">
            <a:avLst>
              <a:gd name="adj1" fmla="val 199"/>
              <a:gd name="adj2" fmla="val -12647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48000" y="5516640"/>
            <a:ext cx="432000" cy="360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-2‘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16720" y="5516640"/>
            <a:ext cx="431640" cy="360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453440" y="5516640"/>
            <a:ext cx="431640" cy="360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461440" y="5516640"/>
            <a:ext cx="431640" cy="360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459640" y="3357720"/>
            <a:ext cx="432000" cy="360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7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63640" y="5516640"/>
            <a:ext cx="503280" cy="360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+9‘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627280" y="5516640"/>
            <a:ext cx="432000" cy="360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+1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771640" y="3284640"/>
            <a:ext cx="432000" cy="360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19640" y="3249720"/>
            <a:ext cx="432000" cy="360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-5‘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16720" y="3249720"/>
            <a:ext cx="431640" cy="360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2’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51280" y="3500280"/>
            <a:ext cx="790560" cy="432000"/>
          </a:xfrm>
          <a:prstGeom prst="wedgeEllipseCallout">
            <a:avLst>
              <a:gd name="adj1" fmla="val 27509"/>
              <a:gd name="adj2" fmla="val -11764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5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7T09:00:27Z</dcterms:created>
  <dc:creator>Jürgen Schmitz</dc:creator>
  <dc:description/>
  <dc:language>en-US</dc:language>
  <cp:lastModifiedBy>Jürgen Schmitz</cp:lastModifiedBy>
  <dcterms:modified xsi:type="dcterms:W3CDTF">2004-12-08T17:59:43Z</dcterms:modified>
  <cp:revision>18</cp:revision>
  <dc:subject/>
  <dc:title>Folie 1</dc:title>
</cp:coreProperties>
</file>